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Own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2-05-02T19:00:18.606000000" idx="1">
    <p:pos x="5157" y="1214"/>
    <p:text>p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C99-90B5-46CB-BF0E-D7B1C79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E99-C3FC-4DEF-9A3C-2E05E65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C0E-4011-4B4F-95F3-18615CD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DC4-5C77-4BCB-BC2B-A052F405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EB09-20D4-423B-A640-C29D9EF0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95D-D2CD-4ADA-B522-474C78C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C45B-1B6D-46B1-8613-F842C1BA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A0F-93EA-4D65-9D2D-EC05827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A7D2-C67F-47C1-B368-114BF6FA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5D1-2ECC-4203-8EE0-32AE8F3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C6B9-A2DA-4F11-9E3E-46EEF7B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DAA-5DF5-4C4E-8DA2-BF2CF42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CE9A-ADA4-4560-8701-DE8626B0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8A7-E73B-4592-B1D4-C2BF5B5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A704-C4CD-4451-B21A-230CD82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CC48-FF9C-4AA7-BD0C-731F1801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42D1-877D-483C-989D-78861B13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5272-4DA3-462E-BE96-2EAE275E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2F7D-8F35-4DD0-BD3D-0D612D07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C145-97F1-4FF7-BABA-99112CB9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2DC7-6075-4B00-92B8-A60758E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063F-381B-47FB-8BF1-C3C1CBF4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A1B-269B-4AC1-9BC3-199A197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60D9-47E5-4EDF-B923-4D90D93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BCCE-DC3C-4A23-9EB6-422375E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44C8-0B25-4915-AFC4-198C870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D2C2-53C8-4998-B026-E9C9145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CAE4-B757-49F7-957B-EBD7DA6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6D80-30A2-4162-98F8-5C3BA75F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A9B6-AE20-4497-AB98-5A437214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59DB-95E1-4C95-A1EC-9FE1191E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9B56-F1F8-4042-8BBE-69CA5AE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B658-45E7-4C52-95EE-0E1119BC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7FF-26F2-4FD3-BC9C-8D31087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9B80-E401-4C56-A781-B54E9199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EA54-8146-4EA7-BE7D-4909F0B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4731-BDFD-480A-8F5E-C8F0B00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AB34-A961-403A-A87A-B76E78D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9223-3353-45E8-92CD-823E076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0852-2406-45AC-AD9A-6BAE8C4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471D-6A3F-4343-83EE-20F6620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146E-9FB2-4C9C-8813-B23CDCE7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7FAD-F47F-48E0-918E-3CD0E5F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71D5-5027-4BA7-9E21-5918467F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34F-BA6F-4095-90DD-F148BD3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6C76-B22B-4555-8A0E-8A0BE278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C524-8B8E-48DE-9668-2674C63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D9C8-049B-491F-B787-D065F13A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D3DE-20DB-4DB1-ACFB-FE011E2C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94AC-A007-4728-BCB7-A6DF9A4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B7A6-A652-4155-B799-6EBAD95C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12481-19BD-492C-B8D6-FB3A709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7DE9-2AEB-465B-886D-1EC44AE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E0C6-7748-4D26-800A-5608E5B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A573-657E-4D12-B3C8-23AFF7C5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07E-C54A-42FA-9E10-04D26377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428D-D512-4823-A9A1-00BF7EEC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9F24-384C-41FF-8932-2F906655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7E54-F4CC-4FFD-B5F6-C49652A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6FD6-10D6-4A02-8304-D81BB87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4BF4-0AE1-4FA7-9DEE-B2CF45A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970E-683E-45D3-8E10-053FEC6B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51B6-A797-4B8A-902E-9811E37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2508-A645-4A89-AE29-B5A4076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FB27-5C12-45D3-85C6-5AB8D17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DCA1-A9F8-46BB-8FD6-EE31C35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787-EFC0-4F86-890F-98153E1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E0A5-574D-4EE0-AC70-CF20B13C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345A-E1CA-42DC-8A80-926604F8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68C4-70C5-4CC2-97E5-2A79F5CE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B54A-5CEC-45C7-9CD8-19FA9942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2FEB8-CD7A-42DE-8A3D-12F6B90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D1C0-EA2D-4B77-9C13-816DB269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48C0-0C52-47C9-BF0D-5FC5CC9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ECE7-0DC7-4A32-A41B-DD42A25C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F4ED6-3052-4A97-B12E-754BA2D9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8EFDA-0CFD-48E6-8614-411082E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B17-D491-431B-B35D-6618AF0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A22B-EECC-4043-881F-98A7535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0C1D-EF31-4CBD-8EBE-D468F116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9642-90F8-4EA9-9402-ED628EE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08CF-E349-4548-874D-3F1C1565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4FD1-1E2E-44D4-BD05-26537A88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63F-4EC0-4921-8B80-80BE52B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644B-09BC-457B-87BF-F92FF379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BA5-5813-4FCA-884C-36EFDF21EC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1BE-26D8-4959-9101-BCE33B53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A960-4FF2-4276-A2D1-B70618EEB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67D-2481-45F3-9BE4-A64505EC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98F2-AB8A-4817-B0D6-9973C39F054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31F-D349-435C-972B-90E841B0210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peinars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54960" cy="139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Nos levantamos temprano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Ella nadó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Yo escribí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i haz ve pon sal sé ten ve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2206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He/she form &amp;…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Yo –o opp &amp;…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2666880"/>
            <a:ext cx="82296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NO des estés vayas sepas sea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186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723960" y="2286000"/>
          <a:ext cx="7315200" cy="3017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 lav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s lavamo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 lava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s lavái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 lav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 lavan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35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31840" y="115920"/>
            <a:ext cx="8686800" cy="2451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An appetizer-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UNA PORCIÓN PEQUEÑA-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jamón</a:t>
            </a: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, chorizo, tortilla española, aceitunas, calamare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554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teriales: Una hoja de paper / un lápiz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ay </a:t>
            </a:r>
            <a:r>
              <a:rPr b="0" lang="en-US" sz="2600" spc="-1" strike="noStrike">
                <a:solidFill>
                  <a:srgbClr val="7598d9"/>
                </a:solidFill>
                <a:latin typeface="Century Gothic"/>
              </a:rPr>
              <a:t>dos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equip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ooses a number for the opposite team in order to reveal the question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o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nd know the answer, or want to “BLUFF,” write down your answer on your paper(or pretend to) and stand up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ll then select a student, from those who are standing, to answer.  If he/she is correct, the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as many points as people standing. If incorrect, the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the point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PEAT the same process but with the other te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1440" cy="1792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04920" y="2666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olvida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528040" cy="2206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Century Gothic"/>
              </a:rPr>
              <a:t>quitar – barrer – ordenar- planch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Mi hermano ______________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la ropa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4133880" y="3786120"/>
            <a:ext cx="4151160" cy="1571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528040" cy="220644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apagar – sacar – empez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Yo ________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Las luces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2"/>
          <a:stretch/>
        </p:blipFill>
        <p:spPr>
          <a:xfrm>
            <a:off x="231840" y="3071880"/>
            <a:ext cx="4876560" cy="1274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LA MANTEQUILL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1809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762120" y="3123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RVIR, PEDIR, COMPETIR,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guir, repeti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0" y="384120"/>
            <a:ext cx="8686800" cy="220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8088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Flamenc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96200" cy="1620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eber &amp; infinitiv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anteay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81080"/>
            <a:ext cx="594360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Las zanahorias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2286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quinientos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71600" y="787320"/>
          <a:ext cx="6629400" cy="541044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7320"/>
                <a:gridCol w="1325520"/>
                <a:gridCol w="132552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7" action="ppaction://hlinksldjump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8" action="ppaction://hlinksldjump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9" action="ppaction://hlinksldjump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0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1" action="ppaction://hlinksldjump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2" action="ppaction://hlinksldjump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94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Roman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Me te le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Nos os les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Gusta/gust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ing. v. pl nou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lg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é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amo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aste          aste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ó               aro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381880" cy="2206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E DUCHÉ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232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ff"/>
                </a:solidFill>
                <a:latin typeface="Century Gothic"/>
              </a:rPr>
              <a:t>fui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52:39Z</dcterms:created>
  <dc:creator>Heather Heffernen</dc:creator>
  <dc:description/>
  <dc:language>en-US</dc:language>
  <cp:lastModifiedBy>Prine, Stephanie</cp:lastModifiedBy>
  <dcterms:modified xsi:type="dcterms:W3CDTF">2014-01-10T17:01:29Z</dcterms:modified>
  <cp:revision>42</cp:revision>
  <dc:subject/>
  <dc:title>BLUFF</dc:title>
</cp:coreProperties>
</file>